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2290-3A8B-48DA-AB3C-2B5A2FB66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0298-EDE7-40EC-AD87-D21B7E2FB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502D-E25B-40D0-A494-2AB104792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E24C-E920-4DEC-8458-A98ACBC9B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77F5-24F4-4E51-8634-F9A64C65B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CB08-5AC3-4EFA-B16C-AABBDC5B5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DEDE-CB85-4CC6-9F89-C6B8E9E77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D221-5444-464F-8FE6-1D813A1A1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D2A1-0C0E-478C-9F77-9701D6EE6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3CB0-E7DF-47C2-B927-0DC5E9CF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5EE9-86CB-4499-88BB-27A26891D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DF7A-FCFF-4BEE-A9E6-2FCF1F00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A6C73-27F1-4A5D-8BA2-D5CF282AA85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fdv.mpsv.cz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99920"/>
            <a:ext cx="7772400" cy="18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Arial"/>
              </a:rPr>
              <a:t>Projekt Systém akreditací – vzdělávání zaměstnanců v sociálních službách (představení změ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860640"/>
            <a:ext cx="737712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Fond dalšího vzdělá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Iva Kabeláč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26. 6.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2"/>
          <a:stretch/>
        </p:blipFill>
        <p:spPr>
          <a:xfrm>
            <a:off x="179280" y="758880"/>
            <a:ext cx="1368360" cy="24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Arial"/>
              </a:rPr>
              <a:t>OBSAHOVÝ RÁMEC –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urzy dalšího vzdělá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ůvodní myšlenka zpracování sylabů pro jednotlivá témata byla zamítnu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dělení kurzů do skupin dle téma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idělování kredit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Arial"/>
              </a:rPr>
              <a:t>HODNOCENÍ ŽÁDOSTÍ A PROGRAMŮ</a:t>
            </a:r>
            <a:br>
              <a:rPr sz="3200"/>
            </a:br>
            <a:r>
              <a:rPr b="1" lang="cs-CZ" sz="2800" spc="-1" strike="noStrike">
                <a:solidFill>
                  <a:srgbClr val="0070c0"/>
                </a:solidFill>
                <a:latin typeface="Arial"/>
              </a:rPr>
              <a:t>nástroje pro zvýšení kvality program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95280" y="1773000"/>
            <a:ext cx="822960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cení žádosti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– nejenom formální, dva hodnotitelé, podrobná metod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reditní systém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idělování kreditů při hodnocení žádosti – dle tématu, rozsah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mluvní podmínky přidělení akredita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vazek vykazování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možnění kontrol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vinnost vyplňování údajů v systé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Arial"/>
              </a:rPr>
              <a:t>INFORMAČNÍ SYSTÉ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EŘEJNÁ ČÁ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000" y="2060280"/>
            <a:ext cx="404028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pro poskytovatele sociálních služeb a jejich zaměstnance, vzdělávací instituce, veřejno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interaktivní katalog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bídky vzdělávacích programů – možnost výběru dle různých parametrů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část pro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registrované uživatele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– podání žádostí o akreditaci, metodické pokyny, sledování stavu žád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právy z kontrolní čin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NTERNÍ ČÁ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43280" y="2060640"/>
            <a:ext cx="40420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pro členy akreditační komise, hodnotitele, MPS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ces schvalování žádostí o akreditaci –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tav žád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hodnocen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žád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lánování k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tisti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cs-CZ" sz="3200" spc="-1" strike="noStrike">
                <a:solidFill>
                  <a:srgbClr val="0070c0"/>
                </a:solidFill>
                <a:latin typeface="Arial"/>
              </a:rPr>
              <a:t>PŘÍNOSY PROJEKTU </a:t>
            </a:r>
            <a:br>
              <a:rPr sz="3200"/>
            </a:br>
            <a:r>
              <a:rPr b="1" lang="cs-CZ" sz="3200" spc="-1" strike="noStrike">
                <a:solidFill>
                  <a:srgbClr val="0070c0"/>
                </a:solidFill>
                <a:latin typeface="Arial"/>
              </a:rPr>
              <a:t>pro poskytovatele sociálních služeb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přehlednění nabídky akreditovaných vzdělávacích programů –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interaktivní katalog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 elektronické podobě s řadou inform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garance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tandardu kvalit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vzdělávacích programů            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zvýšení kompetencí a kvalifikace </a:t>
            </a: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zaměstnanců ve sféře sociálních služ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výšení kontrolní činnosti vzdělávacích institucí –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zachování kvality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 celou dobu platnosti akredit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Šipka doprava 3"/>
          <p:cNvSpPr/>
          <p:nvPr/>
        </p:nvSpPr>
        <p:spPr>
          <a:xfrm>
            <a:off x="2627280" y="3500280"/>
            <a:ext cx="865080" cy="360360"/>
          </a:xfrm>
          <a:prstGeom prst="rightArrow">
            <a:avLst>
              <a:gd name="adj1" fmla="val 50000"/>
              <a:gd name="adj2" fmla="val 49990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Arial"/>
              </a:rPr>
              <a:t>PŘÍNOSY PROJEKTU</a:t>
            </a:r>
            <a:br>
              <a:rPr sz="3200"/>
            </a:br>
            <a:r>
              <a:rPr b="1" lang="cs-CZ" sz="3200" spc="-1" strike="noStrike">
                <a:solidFill>
                  <a:srgbClr val="0070c0"/>
                </a:solidFill>
                <a:latin typeface="Arial"/>
              </a:rPr>
              <a:t>pro vzdělávací instit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zjednodušení procesu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ávání žádostí o akreditaci – elektronický formulář, sledování stavu žád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robnější metodické materiály k podání žádosti –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valifikační kur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idělení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redit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interaktivní katalog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– řada údajů o vzdělávacím programu (instituc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Arial"/>
              </a:rPr>
              <a:t>PŘÍNOSY PROJEKTU</a:t>
            </a:r>
            <a:br>
              <a:rPr sz="3200"/>
            </a:br>
            <a:r>
              <a:rPr b="1" lang="cs-CZ" sz="3200" spc="-1" strike="noStrike">
                <a:solidFill>
                  <a:srgbClr val="0070c0"/>
                </a:solidFill>
                <a:latin typeface="Arial"/>
              </a:rPr>
              <a:t>pro správce agendy akreditací (MPS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zpřehlednění a zjednodušení procesu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ávání a hodnocení žádostí o akredita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informační systém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– jednoduché vyhledávání, intuitivní formulář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etodika pro hodnotitele a jejich zaškol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zpětná vazba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 provedených k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Arial"/>
              </a:rPr>
              <a:t>VÝSTUPY PRO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39640" y="14130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udou prezentovány 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informačních semináří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Šipka dolů 3"/>
          <p:cNvSpPr/>
          <p:nvPr/>
        </p:nvSpPr>
        <p:spPr>
          <a:xfrm>
            <a:off x="4067280" y="1990800"/>
            <a:ext cx="720720" cy="97776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ěkuji za pozornos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70c0"/>
                </a:solidFill>
                <a:latin typeface="Arial"/>
              </a:rPr>
              <a:t>iva.kabelacova@fdv.mpsv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Arial"/>
              </a:rPr>
              <a:t>PŘEDSTAVENÍ FDV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spěvková organizace MPSV (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fdv.mpsv.cz</a:t>
            </a:r>
            <a:r>
              <a:rPr b="0" lang="cs-CZ" sz="2400" spc="-1" strike="noStrike">
                <a:solidFill>
                  <a:srgbClr val="152a90"/>
                </a:solidFill>
                <a:latin typeface="Arial"/>
                <a:ea typeface="Arial"/>
              </a:rPr>
              <a:t>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11280" y="2491920"/>
            <a:ext cx="800424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70c0"/>
                </a:solidFill>
                <a:latin typeface="Arial"/>
              </a:rPr>
              <a:t>Poslání FD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ispět k růstu zaměstnanosti prostřednictvím systémových opatření v oblasti rozvoje lidských zdrojů. Tohoto cíle je možné dosáhnout zapojením obyvatel ČR do systému celoživotního učení a jejich motivováním k trvalému rozvoji svého potenciálu, schopností a dovednost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88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myslem projektu je najít koncepční, efektivní a dlouhodobě udržitelné řešení pro proces agendy akreditací v resortu MPSV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voření systémových nástrojů, které povedou ke zvýšení kvality obsahu vzdělávacích program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Šipka doprava 3"/>
          <p:cNvSpPr/>
          <p:nvPr/>
        </p:nvSpPr>
        <p:spPr>
          <a:xfrm rot="5400000">
            <a:off x="3930840" y="2996280"/>
            <a:ext cx="935280" cy="64764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Arial"/>
              </a:rPr>
              <a:t>HLAVNÍ AKTÉŘI VE VZDĚLÁVÁNÍ</a:t>
            </a:r>
            <a:br>
              <a:rPr sz="3200"/>
            </a:br>
            <a:r>
              <a:rPr b="1" lang="cs-CZ" sz="2800" spc="-1" strike="noStrike">
                <a:solidFill>
                  <a:srgbClr val="0070c0"/>
                </a:solidFill>
                <a:latin typeface="Arial"/>
              </a:rPr>
              <a:t>zaměstnanců v sociálních službá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kytovatelé sociálních služ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městnavatelé, zaměstnan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zdělávací instituce žádající o akredita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PSV – agenda akreditac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kreditační kom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Arial"/>
              </a:rPr>
              <a:t>SOUČASNÁ SITUA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eefektivní a zdlouhavý akreditační pro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istinná podoba žádosti (neexistence elektronické žádos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ormálnos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hodnotícího proce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existující hodnotící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hybí standard kvality obsa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razné rozdíly mezi vzdělávacími progra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edostatečný výkon kontroly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nyní pouze 1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lísání kvality výuky po dobu platnosti akredi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provázanost akreditovaných programů s 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xistujícími systémy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alšího vzdělávání (zákon č. 179/2006 Sb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Arial"/>
              </a:rPr>
              <a:t>REALIZACE PRO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název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Systém akreditac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Podpora kvality v celoživotním a kvalifikačním vzdělávání zaměstnanců v sociálních službá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období realizace: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1. 9. 2012 – 30. 6. 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realizační tým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etod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spektoři kv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expertní skupina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– odborníci z praxe, členové asociací a profesních sdružení             konzultace v průběhu realizace, oponentura výstup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Šipka doprava 3"/>
          <p:cNvSpPr/>
          <p:nvPr/>
        </p:nvSpPr>
        <p:spPr>
          <a:xfrm>
            <a:off x="3995640" y="5084640"/>
            <a:ext cx="792360" cy="289080"/>
          </a:xfrm>
          <a:prstGeom prst="rightArrow">
            <a:avLst>
              <a:gd name="adj1" fmla="val 50000"/>
              <a:gd name="adj2" fmla="val 49985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Arial"/>
              </a:rPr>
              <a:t>ZMĚNA AKREDITAČNÍHO PROCE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revize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elého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roces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schvalování – zpracování nových metodik, formulářů (elektronizace)           zefektivněn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zlepšení přehledu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bídky akreditovaných program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optimaliza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složení akreditační komise – vyšší zastoupení odborníků (externisté), specializace na jednotlivé obla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změna kontrolní činnosti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– na základě inspekcí kvality – navýšení, hodnoc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Šipka doprava 3"/>
          <p:cNvSpPr/>
          <p:nvPr/>
        </p:nvSpPr>
        <p:spPr>
          <a:xfrm>
            <a:off x="3348000" y="2338560"/>
            <a:ext cx="863640" cy="360360"/>
          </a:xfrm>
          <a:prstGeom prst="rightArrow">
            <a:avLst>
              <a:gd name="adj1" fmla="val 50000"/>
              <a:gd name="adj2" fmla="val 50007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Arial"/>
              </a:rPr>
              <a:t>OBSAHOVÝ RÁMEC –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39640" y="1125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nalýza nabídky akreditovaných vzdělávacích programů (4 500) – roztřídění dle stanovených kritérií, zpracování přehledu a popis stávajících akreditovaných program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ypy vzdělávacích kurzů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valifikační kurz dle zákona č. 108/2006 Sb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 pro pracovníky v sociálních službách (rozpracování metodického pokyn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další profesní vzdělávání dle zákona č. 108/2006 Sb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 (povinnost 24 hodin ročně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Arial"/>
              </a:rPr>
              <a:t>OBSAHOVÝ RÁMEC –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lifikační kurz pro pracovníky v sociálních službá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prava vyhlášky – upřesnění témat, odkaz na závazné metodické pokyny MPS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ýšení časové dotace – např. 200 hod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novení poměru teorie a pra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ndardizace zkoušek – zkušební komise, návaznost na zákon č. 179/2006 S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Kabeláčová Iva</cp:lastModifiedBy>
  <dcterms:modified xsi:type="dcterms:W3CDTF">2013-06-25T07:44:31Z</dcterms:modified>
  <cp:revision>47</cp:revision>
  <dc:subject/>
  <dc:title>Snímek 1</dc:title>
</cp:coreProperties>
</file>